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2D14-1E47-470A-A835-109526334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6BF-A720-4209-A0D8-59B1A5F8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F08-9D51-470A-8549-E8D45A97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6F3-9650-4ACB-9838-59B4C770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8A9-C858-4F2E-894F-785F8D1E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6D3-F166-449B-9238-F20983CD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A91-C308-4FAC-A3F1-39A250CC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239-3C46-4C71-B5B9-0D1C8A02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9AB-3628-4682-9817-0D7C890E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8F4-6412-419D-AA60-2C138F24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909-DB9E-4F5A-8500-B6BF1C1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12D-00AF-4400-864D-9E5CC05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026-9D96-452F-8DC3-1E97E0BF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7920-21D5-43DF-9E39-3AC5F8495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3T10:45:40Z</dcterms:modified>
  <cp:revision>23</cp:revision>
  <dc:subject/>
  <dc:title>The French and Indian War</dc:title>
</cp:coreProperties>
</file>